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92D3B-4D3E-4224-A983-5AF2B89C5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958B-4185-4369-B5A6-F0F30AF3A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8F3C2-04B3-49C6-831A-A4BFA2453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79A3F-A36D-4A6B-B022-4BDCF9821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0E5C-8734-4C61-9EB9-4E6BEB75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FDA28-85A3-4B72-877D-AF286943E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E8807-F4C0-44AC-B92D-AF549B164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DEC0F-22B9-4212-BE51-280D55FF4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45FFF-4689-4C68-A660-4042E347C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837E-A83F-4BB9-A2F5-31A3562F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E5F8-551C-47CC-9F3A-961DA6CF8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34FC-2DE1-4FE3-8A28-768490205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1EC8-BCA5-4F4F-9089-C2451F0359D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ission’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9T11:53:45Z</dcterms:modified>
  <cp:revision>107</cp:revision>
  <dc:subject/>
  <dc:title>Titel</dc:title>
</cp:coreProperties>
</file>